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image7.jpeg" ContentType="image/jpeg"/>
  <Override PartName="/ppt/media/image20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008A-659F-48A9-80F6-445D395A95E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96D3-1F1E-45A7-92CD-9745B7030A3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7680" y="69048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95040" rIns="95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lling card companies: pre and post-paid using VoIP gateways or buying minutes from other VoIP wholesal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oiP ops: retail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lcos: mainly international/ LD ops using gateways on selective routes for point to point traff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C626-09DC-40E9-8222-665589311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C864-938A-45C0-B9C8-21ABB123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0C23-B858-4F22-A476-BE17CCE5C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E4DC-54A2-4235-9C0A-508F95CA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39F1-ED2B-4AEF-B1CA-7C3AFDA7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CAC99-A299-489C-9299-8EF8E0C5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0E28-971D-4B75-96D1-0E202868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7B9D-EF69-479A-BEB7-6E4C1733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9883-866C-4599-BCDE-DFA0F9EC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E410-CFE7-45F6-86A0-B0D83502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57C3-4F97-46F1-8427-84B0B7D6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2F43-BEFA-4C5A-A956-457F982B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26F8-E6E0-44FA-91FC-8FF89D23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A400-8892-4178-ACF5-8C59E7B6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B8D4-BF49-45AC-8370-2C0EA565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E134-ABBF-4C24-BF12-EAB66C3F0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8234-08CD-410E-84FA-08DB12522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EF18-D402-4C3D-995E-4525C49C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BCB0-A73F-4A45-A5B1-31FCFA13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661F-05A5-46DA-96E1-444F40E5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887E-3C61-4CEF-9163-6048307B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9A8F-54F7-4429-82A3-92292645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CF70-90C8-4187-97A1-0E25EB8C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563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A069-2D01-4481-A2EF-8925A280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304920" y="0"/>
              <a:ext cx="8534160" cy="6858000"/>
              <a:chOff x="304920" y="0"/>
              <a:chExt cx="8534160" cy="6858000"/>
            </a:xfrm>
          </p:grpSpPr>
          <p:sp>
            <p:nvSpPr>
              <p:cNvPr id="25" name="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" name=""/>
          <p:cNvSpPr/>
          <p:nvPr/>
        </p:nvSpPr>
        <p:spPr>
          <a:xfrm>
            <a:off x="3352680" y="0"/>
            <a:ext cx="579132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839080" y="0"/>
            <a:ext cx="0" cy="236232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14360" y="876240"/>
            <a:ext cx="1784160" cy="2324160"/>
            <a:chOff x="414360" y="876240"/>
            <a:chExt cx="1784160" cy="2324160"/>
          </a:xfrm>
        </p:grpSpPr>
        <p:sp>
          <p:nvSpPr>
            <p:cNvPr id="57" name=""/>
            <p:cNvSpPr/>
            <p:nvPr/>
          </p:nvSpPr>
          <p:spPr>
            <a:xfrm flipH="1">
              <a:off x="414360" y="973800"/>
              <a:ext cx="1784160" cy="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8400" y="879480"/>
              <a:ext cx="0" cy="23209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511200" y="876240"/>
              <a:ext cx="192600" cy="192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9" y="3"/>
                  </a:moveTo>
                  <a:arcTo wR="10800" hR="10800" stAng="-5476576" swAng="16204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9" y="3"/>
                  </a:moveTo>
                  <a:arcTo wR="10800" hR="10800" stAng="-5476576" swAng="16204040"/>
                </a:path>
              </a:pathLst>
            </a:cu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75A6-7A52-4620-9C75-1AA5D921D7A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2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09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219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523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133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38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048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352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962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267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769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1814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913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0958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7057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0102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6201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9246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53452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839080" y="0"/>
                <a:ext cx="0" cy="6858000"/>
              </a:xfrm>
              <a:prstGeom prst="line">
                <a:avLst/>
              </a:prstGeom>
              <a:ln w="9360">
                <a:solidFill>
                  <a:srgbClr val="cfdb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803160" y="196920"/>
            <a:ext cx="0" cy="285120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609480" y="798120"/>
            <a:ext cx="6050160" cy="180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rot="16200000">
            <a:off x="674280" y="675360"/>
            <a:ext cx="246960" cy="24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559" y="3"/>
                </a:moveTo>
                <a:arcTo wR="10800" hR="10800" stAng="-5476576" swAng="16204040"/>
                <a:lnTo>
                  <a:pt x="10800" y="10800"/>
                </a:lnTo>
                <a:close/>
              </a:path>
              <a:path fill="none" w="21600" h="21600">
                <a:moveTo>
                  <a:pt x="10559" y="3"/>
                </a:moveTo>
                <a:arcTo wR="10800" hR="10800" stAng="-5476576" swAng="16204040"/>
              </a:path>
            </a:pathLst>
          </a:cu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349360" y="3098880"/>
            <a:ext cx="6045480" cy="2876400"/>
            <a:chOff x="2349360" y="3098880"/>
            <a:chExt cx="6045480" cy="2876400"/>
          </a:xfrm>
        </p:grpSpPr>
        <p:sp>
          <p:nvSpPr>
            <p:cNvPr id="160" name=""/>
            <p:cNvSpPr/>
            <p:nvPr/>
          </p:nvSpPr>
          <p:spPr>
            <a:xfrm>
              <a:off x="2349360" y="5464080"/>
              <a:ext cx="6045480" cy="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10520" y="3098880"/>
              <a:ext cx="0" cy="287640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5400000">
              <a:off x="8091000" y="5312520"/>
              <a:ext cx="247320" cy="24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9" y="3"/>
                  </a:moveTo>
                  <a:arcTo wR="10800" hR="10800" stAng="-5476576" swAng="16204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9" y="3"/>
                  </a:moveTo>
                  <a:arcTo wR="10800" hR="10800" stAng="-5476576" swAng="16204040"/>
                </a:path>
              </a:pathLst>
            </a:cu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ED14-23AF-4729-BC54-9DCFE7C7385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25909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Focus on New Service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40384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enry Sinnreic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orldCo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3" name="banner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3124080" cy="6462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828800" y="56386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oston, July 18, 200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6095880"/>
            <a:ext cx="769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* The views expressed in this presentation may or may not represent the views of my company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57400" y="15238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eneral Sess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762120" y="1165320"/>
            <a:ext cx="3295440" cy="51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re true Internet host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hoice of applic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hoice of serve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P applianc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mplementation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3Com (3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isc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olumbia Universit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IC WorldCom (1)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ediatrix (1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ortel (4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ingt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emens (5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3526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38" name="graphic_palmiiix" descr=""/>
          <p:cNvPicPr/>
          <p:nvPr/>
        </p:nvPicPr>
        <p:blipFill>
          <a:blip r:embed="rId1"/>
          <a:stretch/>
        </p:blipFill>
        <p:spPr>
          <a:xfrm>
            <a:off x="7620120" y="3048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39" name="Etherset" descr=""/>
          <p:cNvPicPr/>
          <p:nvPr/>
        </p:nvPicPr>
        <p:blipFill>
          <a:blip r:embed="rId2"/>
          <a:stretch/>
        </p:blipFill>
        <p:spPr>
          <a:xfrm>
            <a:off x="3048120" y="4379760"/>
            <a:ext cx="3200400" cy="2097360"/>
          </a:xfrm>
          <a:prstGeom prst="rect">
            <a:avLst/>
          </a:prstGeom>
          <a:ln w="0">
            <a:noFill/>
          </a:ln>
        </p:spPr>
      </p:pic>
      <p:pic>
        <p:nvPicPr>
          <p:cNvPr id="340" name="apa_data" descr=""/>
          <p:cNvPicPr/>
          <p:nvPr/>
        </p:nvPicPr>
        <p:blipFill>
          <a:blip r:embed="rId3"/>
          <a:stretch/>
        </p:blipFill>
        <p:spPr>
          <a:xfrm>
            <a:off x="5715000" y="990720"/>
            <a:ext cx="2666880" cy="143172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IP SIP Phones and Adaptors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2" name="2SIPphones" descr=""/>
          <p:cNvPicPr/>
          <p:nvPr/>
        </p:nvPicPr>
        <p:blipFill>
          <a:blip r:embed="rId4"/>
          <a:stretch/>
        </p:blipFill>
        <p:spPr>
          <a:xfrm>
            <a:off x="3981600" y="2590920"/>
            <a:ext cx="3760560" cy="20095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5791320" y="9144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657600" y="3200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593800" y="2778120"/>
            <a:ext cx="3956040" cy="1295280"/>
            <a:chOff x="2593800" y="2778120"/>
            <a:chExt cx="3956040" cy="1295280"/>
          </a:xfrm>
        </p:grpSpPr>
        <p:sp>
          <p:nvSpPr>
            <p:cNvPr id="346" name=""/>
            <p:cNvSpPr/>
            <p:nvPr/>
          </p:nvSpPr>
          <p:spPr>
            <a:xfrm>
              <a:off x="2593800" y="2778120"/>
              <a:ext cx="3956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593800" y="2778120"/>
              <a:ext cx="395604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  </a:t>
              </a:r>
              <a:r>
                <a:rPr b="0" lang="en-US" sz="7900" spc="-1" strike="noStrike">
                  <a:solidFill>
                    <a:srgbClr val="40458c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               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5486400" y="21337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nalog phone adapt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543800" y="3990960"/>
            <a:ext cx="99072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alm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ontro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5"/>
          <a:stretch/>
        </p:blipFill>
        <p:spPr>
          <a:xfrm>
            <a:off x="3916440" y="914400"/>
            <a:ext cx="141768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1" name=""/>
          <p:cNvGraphicFramePr/>
          <p:nvPr/>
        </p:nvGraphicFramePr>
        <p:xfrm>
          <a:off x="6315120" y="4648320"/>
          <a:ext cx="1990800" cy="1511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15120" y="4648320"/>
                    <a:ext cx="199080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3505320" y="22860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94360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276720" y="5105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N Developers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5E04-47BB-4DCC-89D4-5572C7C1F6D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9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aying Goodbye to the Dumb Phon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890720" y="1447920"/>
            <a:ext cx="4017960" cy="3962160"/>
            <a:chOff x="1890720" y="1447920"/>
            <a:chExt cx="4017960" cy="3962160"/>
          </a:xfrm>
        </p:grpSpPr>
        <p:sp>
          <p:nvSpPr>
            <p:cNvPr id="358" name=""/>
            <p:cNvSpPr/>
            <p:nvPr/>
          </p:nvSpPr>
          <p:spPr>
            <a:xfrm>
              <a:off x="1890720" y="1447920"/>
              <a:ext cx="4017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890720" y="1447920"/>
              <a:ext cx="4017960" cy="39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  </a:t>
              </a:r>
              <a:r>
                <a:rPr b="0" lang="en-US" sz="23000" spc="-1" strike="noStrike">
                  <a:solidFill>
                    <a:srgbClr val="40458c"/>
                  </a:solidFill>
                  <a:latin typeface="Tahoma"/>
                </a:rPr>
                <a:t> </a:t>
              </a: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360" name="phone1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543800" cy="53643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609480" y="5335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ingTel </a:t>
            </a:r>
            <a:r>
              <a:rPr b="0" lang="en-US" sz="2000" spc="-1" strike="noStrike" u="sng">
                <a:solidFill>
                  <a:srgbClr val="40458c"/>
                </a:solidFill>
                <a:uFillTx/>
                <a:latin typeface="Tahoma"/>
              </a:rPr>
              <a:t>intelligent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phone connects </a:t>
            </a:r>
            <a:r>
              <a:rPr b="0" lang="en-US" sz="2000" spc="-1" strike="noStrike" u="sng">
                <a:solidFill>
                  <a:srgbClr val="40458c"/>
                </a:solidFill>
                <a:uFillTx/>
                <a:latin typeface="Tahoma"/>
              </a:rPr>
              <a:t>anywhere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on the Interne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N Developers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A451-B043-4BCF-A246-8C0631DD57A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9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376200"/>
            <a:ext cx="7772400" cy="2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Internet Phones are no dumb terminals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403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elephony Switching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ll switches: PBX, CO, Softswitch, etc.  are the equivalent of mainframes with dumb terminal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oprietary, non-extensible, expensive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witches will stagnate the same way as mainframes do (exchange your laptop with a dumb terminal?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Hostile environment to innovat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00600" y="10663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…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nd withou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rue IP SIP phones have open access to the whole Interne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User choice of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ny serve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ny application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P/SDP/RTP/SMIL, mail, web, IM interoperabilit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SzPct val="18089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hone-PC-palmtop integrat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SzPct val="18089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ew services via the Interne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buSzPct val="18089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ones not yet invented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5" name=""/>
          <p:cNvSpPr/>
          <p:nvPr/>
        </p:nvSpPr>
        <p:spPr>
          <a:xfrm>
            <a:off x="533520" y="58672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78040" y="5740560"/>
            <a:ext cx="570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Home network devices will not be controlled by the telecom “Residential Gateway/Call Agent”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N Developers 200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5EBC-34F4-4586-928D-430CB2EA898C}" type="slidenum">
              <a:t>1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9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IP Communications for e-Commerc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458200" cy="513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4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hance web purchasing with interactive communica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void abandoned shopping car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duce cost of customer service cent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stributed web customer relations management (CRM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14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-mai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14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ext chat based on instant messaging with web page shar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14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oice chat using click and connect: Phone or PC (less desirabl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-Commerce requires QoS, Reliability, zero configura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arly implementations were unsatisfactory and proprieta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INT: Click-to-Connect is IETF RFC 2848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N Developers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192F-915E-439A-8DD8-152491A5AAE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9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Distributed Web Customer Relations Management (CRM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place voice circuit switche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place ACD box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place IVR box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tegrated PC-SIP Phone operator posi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and connect conferenc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tegrated mail routing and managem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novative customer suppo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143000" y="5486400"/>
            <a:ext cx="69246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igger business potential than VoIP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5029200" y="1981080"/>
            <a:ext cx="3276720" cy="762120"/>
            <a:chOff x="5029200" y="1981080"/>
            <a:chExt cx="3276720" cy="762120"/>
          </a:xfrm>
        </p:grpSpPr>
        <p:sp>
          <p:nvSpPr>
            <p:cNvPr id="373" name=""/>
            <p:cNvSpPr/>
            <p:nvPr/>
          </p:nvSpPr>
          <p:spPr>
            <a:xfrm>
              <a:off x="5029200" y="1981080"/>
              <a:ext cx="3276720" cy="762120"/>
            </a:xfrm>
            <a:prstGeom prst="foldedCorner">
              <a:avLst>
                <a:gd name="adj" fmla="val 12500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143680" y="213372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Use SIP, CPL, XM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N Developers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9EC9-B031-4B22-BFEB-26015E7C7CE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9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6" name=""/>
          <p:cNvSpPr txBox="1"/>
          <p:nvPr/>
        </p:nvSpPr>
        <p:spPr>
          <a:xfrm rot="19933200">
            <a:off x="380880" y="2742840"/>
            <a:ext cx="8277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ew Revenue comes only from New Service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3378240" y="4965840"/>
            <a:ext cx="4673520" cy="965160"/>
            <a:chOff x="3378240" y="4965840"/>
            <a:chExt cx="4673520" cy="965160"/>
          </a:xfrm>
        </p:grpSpPr>
        <p:sp>
          <p:nvSpPr>
            <p:cNvPr id="378" name=""/>
            <p:cNvSpPr/>
            <p:nvPr/>
          </p:nvSpPr>
          <p:spPr>
            <a:xfrm>
              <a:off x="3378240" y="4965840"/>
              <a:ext cx="4673520" cy="965160"/>
            </a:xfrm>
            <a:prstGeom prst="foldedCorner">
              <a:avLst>
                <a:gd name="adj" fmla="val 12500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441600" y="5037120"/>
              <a:ext cx="454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on-profit applications like SIP for the hearing impaired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N Developers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FF14-8436-4B47-A706-B501788BF8D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9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Early Misstep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elieving cheaper VoIP is a busines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rom ISDN to H.323 to Internet vo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ing the PC as a phon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missteps?…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N Developers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4884-83FC-4D40-8F05-78242AD4891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9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38320" y="765000"/>
          <a:ext cx="6859440" cy="457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765000"/>
                    <a:ext cx="6859440" cy="45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Tahoma"/>
              </a:rPr>
              <a:t>Retail VoIP Market Share 1999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21760" y="1081080"/>
            <a:ext cx="6701760" cy="4575240"/>
            <a:chOff x="221760" y="1081080"/>
            <a:chExt cx="6701760" cy="4575240"/>
          </a:xfrm>
        </p:grpSpPr>
        <p:graphicFrame>
          <p:nvGraphicFramePr>
            <p:cNvPr id="223" name=""/>
            <p:cNvGraphicFramePr/>
            <p:nvPr/>
          </p:nvGraphicFramePr>
          <p:xfrm>
            <a:off x="434880" y="1339560"/>
            <a:ext cx="6135840" cy="424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4880" y="1339560"/>
                      <a:ext cx="6135840" cy="424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5" name=""/>
            <p:cNvSpPr/>
            <p:nvPr/>
          </p:nvSpPr>
          <p:spPr>
            <a:xfrm>
              <a:off x="3247920" y="1081080"/>
              <a:ext cx="144792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</a:rPr>
                <a:t>Net2Phon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</a:rPr>
                <a:t>9%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51400" y="1419120"/>
              <a:ext cx="965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</a:rPr>
                <a:t>iBasi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</a:rPr>
                <a:t>4%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940280" y="1930320"/>
              <a:ext cx="965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</a:rPr>
                <a:t>Delta3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</a:rPr>
                <a:t>2%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167080" y="2465280"/>
              <a:ext cx="96552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</a:rPr>
                <a:t>ITXC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</a:rPr>
                <a:t>4%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933800" y="3893760"/>
              <a:ext cx="165888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</a:rPr>
                <a:t>CC Companies 47%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01760" y="1866600"/>
              <a:ext cx="965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</a:rPr>
                <a:t>Other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</a:rPr>
                <a:t>34%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1760" y="5257440"/>
              <a:ext cx="670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40458c"/>
                  </a:solidFill>
                  <a:latin typeface="Arial"/>
                </a:rPr>
                <a:t>Worldwide Retail VOIP Revenue in 1999 = $444 Million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5060520" y="2651040"/>
              <a:ext cx="260280" cy="615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4851000" y="2219040"/>
              <a:ext cx="235080" cy="1728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4565520" y="1860480"/>
              <a:ext cx="162000" cy="245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922200" y="1612800"/>
              <a:ext cx="49320" cy="1854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-291960" y="5626080"/>
            <a:ext cx="807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Reference: John Lilley/GartnerGroup/Dataquest – VON Europe 2000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7184880" y="3319560"/>
            <a:ext cx="1656000" cy="2724120"/>
            <a:chOff x="7184880" y="3319560"/>
            <a:chExt cx="1656000" cy="2724120"/>
          </a:xfrm>
        </p:grpSpPr>
        <p:pic>
          <p:nvPicPr>
            <p:cNvPr id="238" name="j0326228" descr=""/>
            <p:cNvPicPr/>
            <p:nvPr/>
          </p:nvPicPr>
          <p:blipFill>
            <a:blip r:embed="rId5"/>
            <a:stretch/>
          </p:blipFill>
          <p:spPr>
            <a:xfrm>
              <a:off x="7184880" y="3319560"/>
              <a:ext cx="165600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7358040" y="5219640"/>
              <a:ext cx="1308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ahoma"/>
                </a:rPr>
                <a:t>Still only 0.05% of telecoms 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095880" y="914400"/>
            <a:ext cx="2590920" cy="2396520"/>
            <a:chOff x="6095880" y="914400"/>
            <a:chExt cx="2590920" cy="2396520"/>
          </a:xfrm>
        </p:grpSpPr>
        <p:sp>
          <p:nvSpPr>
            <p:cNvPr id="241" name=""/>
            <p:cNvSpPr/>
            <p:nvPr/>
          </p:nvSpPr>
          <p:spPr>
            <a:xfrm>
              <a:off x="6095880" y="914400"/>
              <a:ext cx="2590920" cy="2133720"/>
            </a:xfrm>
            <a:prstGeom prst="foldedCorner">
              <a:avLst>
                <a:gd name="adj" fmla="val 12500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10360" y="1022400"/>
              <a:ext cx="23623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There is hardly a business case for IP voice as a stand alone servic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N Developers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A5BF-B8BB-46AD-8E21-7A4C8474F8B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9/00</a:t>
            </a: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IPVSTELECOMS" descr=""/>
          <p:cNvPicPr/>
          <p:nvPr/>
        </p:nvPicPr>
        <p:blipFill>
          <a:blip r:embed="rId1"/>
          <a:stretch/>
        </p:blipFill>
        <p:spPr>
          <a:xfrm>
            <a:off x="701640" y="1231920"/>
            <a:ext cx="6989760" cy="500688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IP and Telecom Value Dynamic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739880" y="1054080"/>
            <a:ext cx="7023240" cy="1313640"/>
            <a:chOff x="1739880" y="1054080"/>
            <a:chExt cx="7023240" cy="1313640"/>
          </a:xfrm>
        </p:grpSpPr>
        <p:sp>
          <p:nvSpPr>
            <p:cNvPr id="246" name=""/>
            <p:cNvSpPr/>
            <p:nvPr/>
          </p:nvSpPr>
          <p:spPr>
            <a:xfrm>
              <a:off x="1739880" y="1079280"/>
              <a:ext cx="6896160" cy="1282680"/>
            </a:xfrm>
            <a:prstGeom prst="foldedCorner">
              <a:avLst>
                <a:gd name="adj" fmla="val 12500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90640" y="1054080"/>
              <a:ext cx="69724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Arial"/>
                </a:rPr>
                <a:t>netpressure.com </a:t>
              </a:r>
              <a:r>
                <a:rPr b="0" lang="en-US" sz="2000" spc="-1" strike="noStrike">
                  <a:solidFill>
                    <a:srgbClr val="40458c"/>
                  </a:solidFill>
                  <a:latin typeface="Arial"/>
                </a:rPr>
                <a:t>predicts the present telco model will disappear by 2003,</a:t>
              </a:r>
              <a:br>
                <a:rPr sz="2000"/>
              </a:br>
              <a:r>
                <a:rPr b="0" lang="en-US" sz="2000" spc="-1" strike="noStrike">
                  <a:solidFill>
                    <a:srgbClr val="40458c"/>
                  </a:solidFill>
                  <a:latin typeface="Arial"/>
                </a:rPr>
                <a:t>bandwidth demand to reach US$1.85 trillion by 2005 due to content evolution 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749160" y="5956200"/>
            <a:ext cx="515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58c"/>
                </a:solidFill>
                <a:latin typeface="Tahoma"/>
              </a:rPr>
              <a:t>Reference: M. Sessions, The Phillips Group, VON Europe 2000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N Developers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4674-AA7B-4420-A683-1880CAD73A1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9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Value of IP Communication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143000" y="1109520"/>
          <a:ext cx="7162920" cy="38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109520"/>
                    <a:ext cx="7162920" cy="38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1600200" y="4732200"/>
            <a:ext cx="8380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oi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58880" y="4732200"/>
            <a:ext cx="8384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oi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i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19360" y="4732200"/>
            <a:ext cx="8384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oi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i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eb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79840" y="4732200"/>
            <a:ext cx="129564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oi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i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eb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resen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897520" y="4732200"/>
            <a:ext cx="129528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oi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i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eb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resen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Qo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15200" y="4732200"/>
            <a:ext cx="129528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oi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i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eb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resen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Qo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curit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905120" y="1684440"/>
            <a:ext cx="3047760" cy="155448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137160" bIns="13716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The integration of all Internet services is the killer applic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4120" y="3048120"/>
            <a:ext cx="2666880" cy="0"/>
          </a:xfrm>
          <a:prstGeom prst="line">
            <a:avLst/>
          </a:prstGeom>
          <a:ln w="9360">
            <a:solidFill>
              <a:srgbClr val="40458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5867280" y="2361960"/>
            <a:ext cx="0" cy="6858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81480" y="1752480"/>
            <a:ext cx="14479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commercial quality voic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606744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Telephon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179800" y="5973840"/>
            <a:ext cx="1066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Telephon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and e-mai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39920" y="5605560"/>
            <a:ext cx="15242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Integrated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voice and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dat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communication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57600" y="6157800"/>
            <a:ext cx="152424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New servic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67280" y="5973840"/>
            <a:ext cx="15242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Commercia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qualit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162920" y="6216480"/>
            <a:ext cx="152388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e-commerc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38280" y="1263600"/>
            <a:ext cx="50292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SIP mobility, location manager, caller preferences..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7162920" y="990720"/>
            <a:ext cx="457200" cy="8380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5334120"/>
            <a:ext cx="28958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Reference: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Jonathan Rosenberg/DynamicSof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6728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Qo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N Developers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2640-677B-49D6-AA30-D5E072D51D0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9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lable Complexity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4732200"/>
            <a:ext cx="8380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oi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58880" y="4732200"/>
            <a:ext cx="8384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oi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i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19360" y="4732200"/>
            <a:ext cx="8384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oi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i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eb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79840" y="4732200"/>
            <a:ext cx="129564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oi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i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eb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resen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897520" y="4732200"/>
            <a:ext cx="129528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oi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i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eb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resen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Qo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315200" y="4732200"/>
            <a:ext cx="129528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oi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i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eb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resen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Qo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curit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19320" y="606744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Telephon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79800" y="5973840"/>
            <a:ext cx="1066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Telephon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and e-mai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39920" y="5605560"/>
            <a:ext cx="15242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Integrated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voice and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dat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communication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57600" y="6157800"/>
            <a:ext cx="152424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New servic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867280" y="5973840"/>
            <a:ext cx="15242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Commercia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qualit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62920" y="6216480"/>
            <a:ext cx="152388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e-commerc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5334120"/>
            <a:ext cx="28958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Reference: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Jonathan Rosenberg/DynamicSof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97080" y="1233360"/>
            <a:ext cx="6854760" cy="33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97080" y="4138560"/>
            <a:ext cx="6854760" cy="1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97080" y="3649680"/>
            <a:ext cx="6854760" cy="14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97080" y="3168720"/>
            <a:ext cx="6854760" cy="14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7080" y="2685960"/>
            <a:ext cx="6854760" cy="1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97080" y="2205000"/>
            <a:ext cx="6854760" cy="1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97080" y="1716120"/>
            <a:ext cx="6854760" cy="14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97080" y="1233360"/>
            <a:ext cx="6854760" cy="1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297080" y="1233360"/>
            <a:ext cx="6854760" cy="338796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7080" y="4621320"/>
            <a:ext cx="6854760" cy="14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1297080" y="4620960"/>
            <a:ext cx="1440" cy="651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444760" y="4620960"/>
            <a:ext cx="1440" cy="651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3581280" y="4620960"/>
            <a:ext cx="1800" cy="651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4729320" y="4620960"/>
            <a:ext cx="1440" cy="651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867280" y="4620960"/>
            <a:ext cx="1800" cy="651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7015320" y="4620960"/>
            <a:ext cx="1440" cy="651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8151840" y="4620960"/>
            <a:ext cx="1440" cy="651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1870200" y="4429080"/>
            <a:ext cx="1137960" cy="92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3008160" y="4230360"/>
            <a:ext cx="1148040" cy="19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156200" y="3847680"/>
            <a:ext cx="1136520" cy="382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5292720" y="3068280"/>
            <a:ext cx="1147680" cy="779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39960" y="4495680"/>
            <a:ext cx="61920" cy="50760"/>
          </a:xfrm>
          <a:custGeom>
            <a:avLst/>
            <a:gdLst/>
            <a:ahLst/>
            <a:rect l="l" t="t" r="r" b="b"/>
            <a:pathLst>
              <a:path w="39" h="32">
                <a:moveTo>
                  <a:pt x="19" y="0"/>
                </a:moveTo>
                <a:lnTo>
                  <a:pt x="39" y="16"/>
                </a:lnTo>
                <a:lnTo>
                  <a:pt x="19" y="32"/>
                </a:lnTo>
                <a:lnTo>
                  <a:pt x="0" y="16"/>
                </a:lnTo>
                <a:lnTo>
                  <a:pt x="19" y="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76480" y="4405320"/>
            <a:ext cx="61920" cy="49320"/>
          </a:xfrm>
          <a:custGeom>
            <a:avLst/>
            <a:gdLst/>
            <a:ahLst/>
            <a:rect l="l" t="t" r="r" b="b"/>
            <a:pathLst>
              <a:path w="39" h="31">
                <a:moveTo>
                  <a:pt x="20" y="0"/>
                </a:moveTo>
                <a:lnTo>
                  <a:pt x="39" y="15"/>
                </a:lnTo>
                <a:lnTo>
                  <a:pt x="20" y="31"/>
                </a:lnTo>
                <a:lnTo>
                  <a:pt x="0" y="15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24160" y="4205160"/>
            <a:ext cx="61920" cy="50760"/>
          </a:xfrm>
          <a:custGeom>
            <a:avLst/>
            <a:gdLst/>
            <a:ahLst/>
            <a:rect l="l" t="t" r="r" b="b"/>
            <a:pathLst>
              <a:path w="39" h="32">
                <a:moveTo>
                  <a:pt x="20" y="0"/>
                </a:moveTo>
                <a:lnTo>
                  <a:pt x="39" y="16"/>
                </a:lnTo>
                <a:lnTo>
                  <a:pt x="20" y="32"/>
                </a:lnTo>
                <a:lnTo>
                  <a:pt x="0" y="16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262480" y="3824280"/>
            <a:ext cx="61920" cy="49320"/>
          </a:xfrm>
          <a:custGeom>
            <a:avLst/>
            <a:gdLst/>
            <a:ahLst/>
            <a:rect l="l" t="t" r="r" b="b"/>
            <a:pathLst>
              <a:path w="39" h="31">
                <a:moveTo>
                  <a:pt x="19" y="0"/>
                </a:moveTo>
                <a:lnTo>
                  <a:pt x="39" y="15"/>
                </a:lnTo>
                <a:lnTo>
                  <a:pt x="19" y="31"/>
                </a:lnTo>
                <a:lnTo>
                  <a:pt x="0" y="15"/>
                </a:lnTo>
                <a:lnTo>
                  <a:pt x="19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410160" y="3043080"/>
            <a:ext cx="61920" cy="51120"/>
          </a:xfrm>
          <a:custGeom>
            <a:avLst/>
            <a:gdLst/>
            <a:ahLst/>
            <a:rect l="l" t="t" r="r" b="b"/>
            <a:pathLst>
              <a:path w="39" h="32">
                <a:moveTo>
                  <a:pt x="19" y="0"/>
                </a:moveTo>
                <a:lnTo>
                  <a:pt x="39" y="16"/>
                </a:lnTo>
                <a:lnTo>
                  <a:pt x="19" y="32"/>
                </a:lnTo>
                <a:lnTo>
                  <a:pt x="0" y="16"/>
                </a:lnTo>
                <a:lnTo>
                  <a:pt x="19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547040" y="1500120"/>
            <a:ext cx="61920" cy="49320"/>
          </a:xfrm>
          <a:custGeom>
            <a:avLst/>
            <a:gdLst/>
            <a:ahLst/>
            <a:rect l="l" t="t" r="r" b="b"/>
            <a:pathLst>
              <a:path w="39" h="31">
                <a:moveTo>
                  <a:pt x="20" y="0"/>
                </a:moveTo>
                <a:lnTo>
                  <a:pt x="39" y="15"/>
                </a:lnTo>
                <a:lnTo>
                  <a:pt x="20" y="31"/>
                </a:lnTo>
                <a:lnTo>
                  <a:pt x="0" y="15"/>
                </a:lnTo>
                <a:lnTo>
                  <a:pt x="2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1905120" y="3885840"/>
            <a:ext cx="6095880" cy="60948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90920" y="1479600"/>
            <a:ext cx="19810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mplexity of vertically integrated system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648320" y="1479600"/>
            <a:ext cx="2590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Value of communicatio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43600" y="4114800"/>
            <a:ext cx="2209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IETF featur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440400" y="1523520"/>
            <a:ext cx="1138320" cy="1544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-761040" y="-1143360"/>
            <a:ext cx="5333040" cy="5637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43400" y="2819520"/>
            <a:ext cx="0" cy="137160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629400" y="2819520"/>
            <a:ext cx="0" cy="121896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1148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s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00800" y="3200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ai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N Developers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2EC0-12F3-43EB-8639-8C41F464AB0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9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New: IP Communication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amless integration with the we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ified Messaging (ex: sip message waiting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es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stant messaging using any/all med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aller and called party prefer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rd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party call contro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ixed Internet-PSTN servi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f5f5f"/>
                </a:solidFill>
                <a:latin typeface="Tahoma"/>
              </a:rPr>
              <a:t>…</a:t>
            </a:r>
            <a:r>
              <a:rPr b="0" lang="en-US" sz="2800" spc="-1" strike="noStrike">
                <a:solidFill>
                  <a:srgbClr val="5f5f5f"/>
                </a:solidFill>
                <a:latin typeface="Tahoma"/>
              </a:rPr>
              <a:t>also emulate all PSTN IN/PBX features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N Developers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E0AA-114B-4D7C-8893-12293B0819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9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Presence, Instant Messaging and Voice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3129120" y="990720"/>
            <a:ext cx="1334880" cy="2361960"/>
          </a:xfrm>
          <a:prstGeom prst="rect">
            <a:avLst/>
          </a:prstGeom>
          <a:ln w="0">
            <a:noFill/>
          </a:ln>
        </p:spPr>
      </p:pic>
      <p:pic>
        <p:nvPicPr>
          <p:cNvPr id="327" name="invitations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1817640" cy="204444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762120" y="609480"/>
            <a:ext cx="807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Presence in proprietary commercial systems got the interest of the IETF IMMP WG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29" name="chatcontrol" descr="HearMe VoicePresence screenshot"/>
          <p:cNvPicPr/>
          <p:nvPr/>
        </p:nvPicPr>
        <p:blipFill>
          <a:blip r:embed="rId3"/>
          <a:stretch/>
        </p:blipFill>
        <p:spPr>
          <a:xfrm>
            <a:off x="1011240" y="3200400"/>
            <a:ext cx="1655640" cy="259092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4"/>
          <a:stretch/>
        </p:blipFill>
        <p:spPr>
          <a:xfrm>
            <a:off x="5013360" y="990720"/>
            <a:ext cx="1523880" cy="236196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5"/>
          <a:stretch/>
        </p:blipFill>
        <p:spPr>
          <a:xfrm>
            <a:off x="7086600" y="990720"/>
            <a:ext cx="1630440" cy="23619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6"/>
          <a:stretch/>
        </p:blipFill>
        <p:spPr>
          <a:xfrm>
            <a:off x="3824280" y="2209680"/>
            <a:ext cx="4405320" cy="36673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685800" y="60199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http://www.ietf.org/internet-drafts/draft-ietf-impp-model-03.tx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N Developers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FFF7-AB98-420D-A208-3A173D07B9F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9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Presence and Instant Communication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can be provided by SIP: 7 new I-Ds!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es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cation: office, home, travel,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ll state: ready, on another call (ID)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illingness: available, in meeting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eferred medium: text, voice, video, e-mai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ller preferenc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p-on to an existing call – instant confer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bile phone state: online, with camp-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cation based screening: home/wor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rcom telephony: between trading desk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esence for any type of communications: SI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nnot be provided by PSTN, H.323 or MEGACO/H.248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ON Developers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A778-AD08-4274-8418-6DD55D92931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/19/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2T12:23:20Z</dcterms:created>
  <dc:creator>Henry Sinnreich</dc:creator>
  <dc:description/>
  <dc:language>en-US</dc:language>
  <cp:lastModifiedBy>Henry Sinnreich</cp:lastModifiedBy>
  <dcterms:modified xsi:type="dcterms:W3CDTF">2000-07-17T21:32:07Z</dcterms:modified>
  <cp:revision>15</cp:revision>
  <dc:subject/>
  <dc:title>Services and Call Flows for IP Telephony</dc:title>
</cp:coreProperties>
</file>